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51.wmf" ContentType="image/x-wmf"/>
  <Override PartName="/ppt/media/image50.gif" ContentType="image/gif"/>
  <Override PartName="/ppt/media/image10.wmf" ContentType="image/x-wmf"/>
  <Override PartName="/ppt/media/image46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63.gif" ContentType="image/gif"/>
  <Override PartName="/ppt/media/image22.wmf" ContentType="image/x-wmf"/>
  <Override PartName="/ppt/media/image29.wmf" ContentType="image/x-wmf"/>
  <Override PartName="/ppt/media/WHOOSH.WAV" ContentType="audio/x-wav"/>
  <Override PartName="/ppt/media/image16.wmf" ContentType="image/x-wmf"/>
  <Override PartName="/ppt/media/image4.wmf" ContentType="image/x-wmf"/>
  <Override PartName="/ppt/media/LASER.WAV" ContentType="audio/x-wav"/>
  <Override PartName="/ppt/media/image48.wmf" ContentType="image/x-wmf"/>
  <Override PartName="/ppt/media/image11.wmf" ContentType="image/x-wmf"/>
  <Override PartName="/ppt/media/gunshot.wav" ContentType="audio/x-wav"/>
  <Override PartName="/ppt/media/image25.wmf" ContentType="image/x-wmf"/>
  <Override PartName="/ppt/media/image12.wmf" ContentType="image/x-wmf"/>
  <Override PartName="/ppt/media/image52.wmf" ContentType="image/x-wmf"/>
  <Override PartName="/ppt/media/image54.wmf" ContentType="image/x-wmf"/>
  <Override PartName="/ppt/media/image55.wmf" ContentType="image/x-wmf"/>
  <Override PartName="/ppt/media/image21.wmf" ContentType="image/x-wmf"/>
  <Override PartName="/ppt/media/image58.wmf" ContentType="image/x-wmf"/>
  <Override PartName="/ppt/media/image56.wmf" ContentType="image/x-wmf"/>
  <Override PartName="/ppt/media/image57.wmf" ContentType="image/x-wmf"/>
  <Override PartName="/ppt/media/image69.wmf" ContentType="image/x-wmf"/>
  <Override PartName="/ppt/media/image14.wmf" ContentType="image/x-wmf"/>
  <Override PartName="/ppt/media/image2.wmf" ContentType="image/x-wmf"/>
  <Override PartName="/ppt/media/image32.wmf" ContentType="image/x-wmf"/>
  <Override PartName="/ppt/media/image70.wmf" ContentType="image/x-wmf"/>
  <Override PartName="/ppt/media/image49.wmf" ContentType="image/x-wmf"/>
  <Override PartName="/ppt/media/CHIMES.WAV" ContentType="audio/x-wav"/>
  <Override PartName="/ppt/media/image28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53.wmf" ContentType="image/x-wmf"/>
  <Override PartName="/ppt/media/carbrake.wav" ContentType="audio/x-wav"/>
  <Override PartName="/ppt/media/CAMERA.WAV" ContentType="audio/x-wav"/>
  <Override PartName="/ppt/media/image45.wmf" ContentType="image/x-wmf"/>
  <Override PartName="/ppt/media/EXPLODE.WAV" ContentType="audio/x-wav"/>
  <Override PartName="/ppt/media/image1.wmf" ContentType="image/x-wmf"/>
  <Override PartName="/ppt/media/image13.wmf" ContentType="image/x-wmf"/>
  <Override PartName="/ppt/media/image64.wmf" ContentType="image/x-wmf"/>
  <Override PartName="/ppt/media/image62.wmf" ContentType="image/x-wmf"/>
  <Override PartName="/ppt/media/image59.wmf" ContentType="image/x-wmf"/>
  <Override PartName="/ppt/media/image61.wmf" ContentType="image/x-wmf"/>
  <Override PartName="/ppt/media/image60.wmf" ContentType="image/x-wmf"/>
  <Override PartName="/ppt/media/image20.wmf" ContentType="image/x-wmf"/>
  <Override PartName="/ppt/media/driveby.wav" ContentType="audio/x-wav"/>
  <Override PartName="/ppt/media/image15.wmf" ContentType="image/x-wmf"/>
  <Override PartName="/ppt/media/image3.wmf" ContentType="image/x-wmf"/>
  <Override PartName="/ppt/media/image33.wmf" ContentType="image/x-wmf"/>
  <Override PartName="/ppt/media/image34.wmf" ContentType="image/x-wmf"/>
  <Override PartName="/ppt/media/applause.wav" ContentType="audio/x-wav"/>
  <Override PartName="/ppt/media/image17.wmf" ContentType="image/x-wmf"/>
  <Override PartName="/ppt/media/image5.wmf" ContentType="image/x-wmf"/>
  <Override PartName="/ppt/media/image35.wmf" ContentType="image/x-wmf"/>
  <Override PartName="/ppt/media/image47.wmf" ContentType="image/x-wmf"/>
  <Override PartName="/ppt/media/image36.wmf" ContentType="image/x-wmf"/>
  <Override PartName="/ppt/media/image18.wmf" ContentType="image/x-wmf"/>
  <Override PartName="/ppt/media/image6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DCC1-4EF8-4B95-8DE7-897195293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51E4-CFA7-40A3-A623-EF5A633B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09A7-2C5C-4852-BBC6-FDDE2F3E1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6B55-2CE2-47AB-9F48-E05EBBF8E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750F-D054-44DE-B0BB-8D501BA4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0615-1ACA-4F70-B648-0A997B74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5C7A-8155-4451-8A9E-7CACEA85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604E-1F0D-48BD-8B16-E65AED58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90A1-7CCF-44A2-83B5-0CB9A8F3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D8A5-A3EB-4B17-A8B9-638FB06C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69D3-2E15-4F91-9E49-5C50A3B3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FEE1-7560-4390-8B37-B4D61C03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E37C-091E-4288-ABEF-6A57945B4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.wmf"/><Relationship Id="rId25" Type="http://schemas.openxmlformats.org/officeDocument/2006/relationships/audio" Target="../media/WHOOSH.WAV"/><Relationship Id="rId26" Type="http://schemas.openxmlformats.org/officeDocument/2006/relationships/audio" Target="../media/CHIMES.WAV"/><Relationship Id="rId27" Type="http://schemas.openxmlformats.org/officeDocument/2006/relationships/audio" Target="../media/CAMERA.WAV"/><Relationship Id="rId28" Type="http://schemas.openxmlformats.org/officeDocument/2006/relationships/audio" Target="../media/LASER.WAV"/><Relationship Id="rId29" Type="http://schemas.openxmlformats.org/officeDocument/2006/relationships/audio" Target="../media/LASER.WAV"/><Relationship Id="rId30" Type="http://schemas.openxmlformats.org/officeDocument/2006/relationships/audio" Target="../media/driveby.wav"/><Relationship Id="rId31" Type="http://schemas.openxmlformats.org/officeDocument/2006/relationships/audio" Target="../media/EXPLODE.WAV"/><Relationship Id="rId32" Type="http://schemas.openxmlformats.org/officeDocument/2006/relationships/audio" Target="../media/EXPLODE.WAV"/><Relationship Id="rId33" Type="http://schemas.openxmlformats.org/officeDocument/2006/relationships/audio" Target="../media/driveby.wav"/><Relationship Id="rId34" Type="http://schemas.openxmlformats.org/officeDocument/2006/relationships/audio" Target="../media/LASER.WAV"/><Relationship Id="rId35" Type="http://schemas.openxmlformats.org/officeDocument/2006/relationships/audio" Target="../media/driveby.wav"/><Relationship Id="rId36" Type="http://schemas.openxmlformats.org/officeDocument/2006/relationships/audio" Target="../media/LASER.WAV"/><Relationship Id="rId37" Type="http://schemas.openxmlformats.org/officeDocument/2006/relationships/audio" Target="../media/EXPLODE.WAV"/><Relationship Id="rId38" Type="http://schemas.openxmlformats.org/officeDocument/2006/relationships/audio" Target="../media/EXPLODE.WAV"/><Relationship Id="rId39" Type="http://schemas.openxmlformats.org/officeDocument/2006/relationships/audio" Target="../media/CAMERA.WAV"/><Relationship Id="rId40" Type="http://schemas.openxmlformats.org/officeDocument/2006/relationships/audio" Target="../media/gunshot.wav"/><Relationship Id="rId41" Type="http://schemas.openxmlformats.org/officeDocument/2006/relationships/audio" Target="../media/gunshot.wav"/><Relationship Id="rId42" Type="http://schemas.openxmlformats.org/officeDocument/2006/relationships/audio" Target="../media/gunshot.wav"/><Relationship Id="rId43" Type="http://schemas.openxmlformats.org/officeDocument/2006/relationships/audio" Target="../media/driveby.wav"/><Relationship Id="rId44" Type="http://schemas.openxmlformats.org/officeDocument/2006/relationships/audio" Target="../media/driveby.wav"/><Relationship Id="rId45" Type="http://schemas.openxmlformats.org/officeDocument/2006/relationships/audio" Target="../media/applause.wav"/><Relationship Id="rId4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1.wmf"/><Relationship Id="rId27" Type="http://schemas.openxmlformats.org/officeDocument/2006/relationships/audio" Target="../media/CAMERA.WAV"/><Relationship Id="rId28" Type="http://schemas.openxmlformats.org/officeDocument/2006/relationships/audio" Target="../media/LASER.WAV"/><Relationship Id="rId29" Type="http://schemas.openxmlformats.org/officeDocument/2006/relationships/audio" Target="../media/LASER.WAV"/><Relationship Id="rId30" Type="http://schemas.openxmlformats.org/officeDocument/2006/relationships/audio" Target="../media/driveby.wav"/><Relationship Id="rId31" Type="http://schemas.openxmlformats.org/officeDocument/2006/relationships/audio" Target="../media/EXPLODE.WAV"/><Relationship Id="rId32" Type="http://schemas.openxmlformats.org/officeDocument/2006/relationships/audio" Target="../media/EXPLODE.WAV"/><Relationship Id="rId33" Type="http://schemas.openxmlformats.org/officeDocument/2006/relationships/audio" Target="../media/driveby.wav"/><Relationship Id="rId34" Type="http://schemas.openxmlformats.org/officeDocument/2006/relationships/audio" Target="../media/LASER.WAV"/><Relationship Id="rId35" Type="http://schemas.openxmlformats.org/officeDocument/2006/relationships/audio" Target="../media/driveby.wav"/><Relationship Id="rId36" Type="http://schemas.openxmlformats.org/officeDocument/2006/relationships/audio" Target="../media/LASER.WAV"/><Relationship Id="rId37" Type="http://schemas.openxmlformats.org/officeDocument/2006/relationships/audio" Target="../media/EXPLODE.WAV"/><Relationship Id="rId38" Type="http://schemas.openxmlformats.org/officeDocument/2006/relationships/audio" Target="../media/EXPLODE.WAV"/><Relationship Id="rId39" Type="http://schemas.openxmlformats.org/officeDocument/2006/relationships/audio" Target="../media/EXPLODE.WAV"/><Relationship Id="rId40" Type="http://schemas.openxmlformats.org/officeDocument/2006/relationships/audio" Target="../media/CAMERA.WAV"/><Relationship Id="rId41" Type="http://schemas.openxmlformats.org/officeDocument/2006/relationships/audio" Target="../media/gunshot.wav"/><Relationship Id="rId42" Type="http://schemas.openxmlformats.org/officeDocument/2006/relationships/audio" Target="../media/gunshot.wav"/><Relationship Id="rId43" Type="http://schemas.openxmlformats.org/officeDocument/2006/relationships/audio" Target="../media/gunshot.wav"/><Relationship Id="rId44" Type="http://schemas.openxmlformats.org/officeDocument/2006/relationships/audio" Target="../media/driveby.wav"/><Relationship Id="rId45" Type="http://schemas.openxmlformats.org/officeDocument/2006/relationships/audio" Target="../media/driveby.wav"/><Relationship Id="rId46" Type="http://schemas.openxmlformats.org/officeDocument/2006/relationships/audio" Target="../media/applause.wav"/><Relationship Id="rId4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2.wmf"/><Relationship Id="rId27" Type="http://schemas.openxmlformats.org/officeDocument/2006/relationships/audio" Target="../media/CAMERA.WAV"/><Relationship Id="rId28" Type="http://schemas.openxmlformats.org/officeDocument/2006/relationships/audio" Target="../media/LASER.WAV"/><Relationship Id="rId29" Type="http://schemas.openxmlformats.org/officeDocument/2006/relationships/audio" Target="../media/LASER.WAV"/><Relationship Id="rId30" Type="http://schemas.openxmlformats.org/officeDocument/2006/relationships/audio" Target="../media/driveby.wav"/><Relationship Id="rId31" Type="http://schemas.openxmlformats.org/officeDocument/2006/relationships/audio" Target="../media/EXPLODE.WAV"/><Relationship Id="rId32" Type="http://schemas.openxmlformats.org/officeDocument/2006/relationships/audio" Target="../media/EXPLODE.WAV"/><Relationship Id="rId33" Type="http://schemas.openxmlformats.org/officeDocument/2006/relationships/audio" Target="../media/driveby.wav"/><Relationship Id="rId34" Type="http://schemas.openxmlformats.org/officeDocument/2006/relationships/audio" Target="../media/LASER.WAV"/><Relationship Id="rId35" Type="http://schemas.openxmlformats.org/officeDocument/2006/relationships/audio" Target="../media/driveby.wav"/><Relationship Id="rId36" Type="http://schemas.openxmlformats.org/officeDocument/2006/relationships/audio" Target="../media/LASER.WAV"/><Relationship Id="rId37" Type="http://schemas.openxmlformats.org/officeDocument/2006/relationships/audio" Target="../media/EXPLODE.WAV"/><Relationship Id="rId38" Type="http://schemas.openxmlformats.org/officeDocument/2006/relationships/audio" Target="../media/EXPLODE.WAV"/><Relationship Id="rId39" Type="http://schemas.openxmlformats.org/officeDocument/2006/relationships/audio" Target="../media/EXPLODE.WAV"/><Relationship Id="rId40" Type="http://schemas.openxmlformats.org/officeDocument/2006/relationships/audio" Target="../media/CAMERA.WAV"/><Relationship Id="rId41" Type="http://schemas.openxmlformats.org/officeDocument/2006/relationships/audio" Target="../media/gunshot.wav"/><Relationship Id="rId42" Type="http://schemas.openxmlformats.org/officeDocument/2006/relationships/audio" Target="../media/gunshot.wav"/><Relationship Id="rId43" Type="http://schemas.openxmlformats.org/officeDocument/2006/relationships/audio" Target="../media/gunshot.wav"/><Relationship Id="rId44" Type="http://schemas.openxmlformats.org/officeDocument/2006/relationships/audio" Target="../media/driveby.wav"/><Relationship Id="rId45" Type="http://schemas.openxmlformats.org/officeDocument/2006/relationships/audio" Target="../media/driveby.wav"/><Relationship Id="rId46" Type="http://schemas.openxmlformats.org/officeDocument/2006/relationships/audio" Target="../media/applause.wav"/><Relationship Id="rId4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audio" Target="../media/CAMERA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driveby.wav"/><Relationship Id="rId15" Type="http://schemas.openxmlformats.org/officeDocument/2006/relationships/audio" Target="../media/EXPLODE.WAV"/><Relationship Id="rId16" Type="http://schemas.openxmlformats.org/officeDocument/2006/relationships/audio" Target="../media/EXPLODE.WAV"/><Relationship Id="rId17" Type="http://schemas.openxmlformats.org/officeDocument/2006/relationships/audio" Target="../media/EXPLODE.WAV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audio" Target="../media/driveby.wav"/><Relationship Id="rId22" Type="http://schemas.openxmlformats.org/officeDocument/2006/relationships/audio" Target="../media/EXPLODE.WAV"/><Relationship Id="rId23" Type="http://schemas.openxmlformats.org/officeDocument/2006/relationships/audio" Target="../media/EXPLODE.WAV"/><Relationship Id="rId24" Type="http://schemas.openxmlformats.org/officeDocument/2006/relationships/audio" Target="../media/EXPLODE.WAV"/><Relationship Id="rId25" Type="http://schemas.openxmlformats.org/officeDocument/2006/relationships/audio" Target="../media/EXPLODE.WAV"/><Relationship Id="rId2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9.wmf"/><Relationship Id="rId27" Type="http://schemas.openxmlformats.org/officeDocument/2006/relationships/audio" Target="../media/CAMERA.WAV"/><Relationship Id="rId28" Type="http://schemas.openxmlformats.org/officeDocument/2006/relationships/audio" Target="../media/LASER.WAV"/><Relationship Id="rId29" Type="http://schemas.openxmlformats.org/officeDocument/2006/relationships/audio" Target="../media/LASER.WAV"/><Relationship Id="rId30" Type="http://schemas.openxmlformats.org/officeDocument/2006/relationships/audio" Target="../media/driveby.wav"/><Relationship Id="rId31" Type="http://schemas.openxmlformats.org/officeDocument/2006/relationships/audio" Target="../media/EXPLODE.WAV"/><Relationship Id="rId32" Type="http://schemas.openxmlformats.org/officeDocument/2006/relationships/audio" Target="../media/EXPLODE.WAV"/><Relationship Id="rId33" Type="http://schemas.openxmlformats.org/officeDocument/2006/relationships/audio" Target="../media/driveby.wav"/><Relationship Id="rId34" Type="http://schemas.openxmlformats.org/officeDocument/2006/relationships/audio" Target="../media/LASER.WAV"/><Relationship Id="rId35" Type="http://schemas.openxmlformats.org/officeDocument/2006/relationships/audio" Target="../media/driveby.wav"/><Relationship Id="rId36" Type="http://schemas.openxmlformats.org/officeDocument/2006/relationships/audio" Target="../media/LASER.WAV"/><Relationship Id="rId37" Type="http://schemas.openxmlformats.org/officeDocument/2006/relationships/audio" Target="../media/EXPLODE.WAV"/><Relationship Id="rId38" Type="http://schemas.openxmlformats.org/officeDocument/2006/relationships/audio" Target="../media/EXPLODE.WAV"/><Relationship Id="rId39" Type="http://schemas.openxmlformats.org/officeDocument/2006/relationships/audio" Target="../media/EXPLODE.WAV"/><Relationship Id="rId40" Type="http://schemas.openxmlformats.org/officeDocument/2006/relationships/audio" Target="../media/CAMERA.WAV"/><Relationship Id="rId41" Type="http://schemas.openxmlformats.org/officeDocument/2006/relationships/audio" Target="../media/gunshot.wav"/><Relationship Id="rId42" Type="http://schemas.openxmlformats.org/officeDocument/2006/relationships/audio" Target="../media/gunshot.wav"/><Relationship Id="rId43" Type="http://schemas.openxmlformats.org/officeDocument/2006/relationships/audio" Target="../media/gunshot.wav"/><Relationship Id="rId44" Type="http://schemas.openxmlformats.org/officeDocument/2006/relationships/audio" Target="../media/driveby.wav"/><Relationship Id="rId45" Type="http://schemas.openxmlformats.org/officeDocument/2006/relationships/audio" Target="../media/driveby.wav"/><Relationship Id="rId46" Type="http://schemas.openxmlformats.org/officeDocument/2006/relationships/audio" Target="../media/applause.wav"/><Relationship Id="rId4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5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57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58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59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60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61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61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62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53.wmf"/><Relationship Id="rId32" Type="http://schemas.openxmlformats.org/officeDocument/2006/relationships/audio" Target="../media/CHIMES.WAV"/><Relationship Id="rId33" Type="http://schemas.openxmlformats.org/officeDocument/2006/relationships/audio" Target="../media/CHIMES.WAV"/><Relationship Id="rId34" Type="http://schemas.openxmlformats.org/officeDocument/2006/relationships/audio" Target="../media/CAMERA.WAV"/><Relationship Id="rId35" Type="http://schemas.openxmlformats.org/officeDocument/2006/relationships/audio" Target="../media/CAMERA.WAV"/><Relationship Id="rId36" Type="http://schemas.openxmlformats.org/officeDocument/2006/relationships/audio" Target="../media/CAMERA.WAV"/><Relationship Id="rId37" Type="http://schemas.openxmlformats.org/officeDocument/2006/relationships/audio" Target="../media/CAMERA.WAV"/><Relationship Id="rId38" Type="http://schemas.openxmlformats.org/officeDocument/2006/relationships/audio" Target="../media/CAMERA.WAV"/><Relationship Id="rId39" Type="http://schemas.openxmlformats.org/officeDocument/2006/relationships/audio" Target="../media/EXPLODE.WAV"/><Relationship Id="rId40" Type="http://schemas.openxmlformats.org/officeDocument/2006/relationships/audio" Target="../media/EXPLODE.WAV"/><Relationship Id="rId41" Type="http://schemas.openxmlformats.org/officeDocument/2006/relationships/audio" Target="../media/LASER.WAV"/><Relationship Id="rId42" Type="http://schemas.openxmlformats.org/officeDocument/2006/relationships/audio" Target="../media/LASER.WAV"/><Relationship Id="rId43" Type="http://schemas.openxmlformats.org/officeDocument/2006/relationships/audio" Target="../media/driveby.wav"/><Relationship Id="rId44" Type="http://schemas.openxmlformats.org/officeDocument/2006/relationships/audio" Target="../media/EXPLODE.WAV"/><Relationship Id="rId45" Type="http://schemas.openxmlformats.org/officeDocument/2006/relationships/audio" Target="../media/EXPLODE.WAV"/><Relationship Id="rId46" Type="http://schemas.openxmlformats.org/officeDocument/2006/relationships/audio" Target="../media/driveby.wav"/><Relationship Id="rId47" Type="http://schemas.openxmlformats.org/officeDocument/2006/relationships/audio" Target="../media/LASER.WAV"/><Relationship Id="rId48" Type="http://schemas.openxmlformats.org/officeDocument/2006/relationships/audio" Target="../media/driveby.wav"/><Relationship Id="rId49" Type="http://schemas.openxmlformats.org/officeDocument/2006/relationships/audio" Target="../media/LASER.WAV"/><Relationship Id="rId50" Type="http://schemas.openxmlformats.org/officeDocument/2006/relationships/audio" Target="../media/EXPLODE.WAV"/><Relationship Id="rId51" Type="http://schemas.openxmlformats.org/officeDocument/2006/relationships/audio" Target="../media/EXPLODE.WAV"/><Relationship Id="rId52" Type="http://schemas.openxmlformats.org/officeDocument/2006/relationships/audio" Target="../media/carbrake.wav"/><Relationship Id="rId5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3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66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67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68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69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60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61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61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70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65.wmf"/><Relationship Id="rId32" Type="http://schemas.openxmlformats.org/officeDocument/2006/relationships/audio" Target="../media/CHIMES.WAV"/><Relationship Id="rId33" Type="http://schemas.openxmlformats.org/officeDocument/2006/relationships/audio" Target="../media/CAMERA.WAV"/><Relationship Id="rId34" Type="http://schemas.openxmlformats.org/officeDocument/2006/relationships/audio" Target="../media/CAMERA.WAV"/><Relationship Id="rId35" Type="http://schemas.openxmlformats.org/officeDocument/2006/relationships/audio" Target="../media/CAMERA.WAV"/><Relationship Id="rId36" Type="http://schemas.openxmlformats.org/officeDocument/2006/relationships/audio" Target="../media/CAMERA.WAV"/><Relationship Id="rId37" Type="http://schemas.openxmlformats.org/officeDocument/2006/relationships/audio" Target="../media/CAMERA.WAV"/><Relationship Id="rId38" Type="http://schemas.openxmlformats.org/officeDocument/2006/relationships/audio" Target="../media/EXPLODE.WAV"/><Relationship Id="rId39" Type="http://schemas.openxmlformats.org/officeDocument/2006/relationships/audio" Target="../media/EXPLODE.WAV"/><Relationship Id="rId40" Type="http://schemas.openxmlformats.org/officeDocument/2006/relationships/audio" Target="../media/LASER.WAV"/><Relationship Id="rId41" Type="http://schemas.openxmlformats.org/officeDocument/2006/relationships/audio" Target="../media/LASER.WAV"/><Relationship Id="rId42" Type="http://schemas.openxmlformats.org/officeDocument/2006/relationships/audio" Target="../media/driveby.wav"/><Relationship Id="rId43" Type="http://schemas.openxmlformats.org/officeDocument/2006/relationships/audio" Target="../media/EXPLODE.WAV"/><Relationship Id="rId44" Type="http://schemas.openxmlformats.org/officeDocument/2006/relationships/audio" Target="../media/EXPLODE.WAV"/><Relationship Id="rId45" Type="http://schemas.openxmlformats.org/officeDocument/2006/relationships/audio" Target="../media/driveby.wav"/><Relationship Id="rId46" Type="http://schemas.openxmlformats.org/officeDocument/2006/relationships/audio" Target="../media/LASER.WAV"/><Relationship Id="rId47" Type="http://schemas.openxmlformats.org/officeDocument/2006/relationships/audio" Target="../media/driveby.wav"/><Relationship Id="rId48" Type="http://schemas.openxmlformats.org/officeDocument/2006/relationships/audio" Target="../media/LASER.WAV"/><Relationship Id="rId49" Type="http://schemas.openxmlformats.org/officeDocument/2006/relationships/audio" Target="../media/EXPLODE.WAV"/><Relationship Id="rId50" Type="http://schemas.openxmlformats.org/officeDocument/2006/relationships/audio" Target="../media/EXPLODE.WAV"/><Relationship Id="rId51" Type="http://schemas.openxmlformats.org/officeDocument/2006/relationships/audio" Target="../media/carbrake.wav"/><Relationship Id="rId5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809880"/>
            <a:ext cx="3200400" cy="1524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4920" y="1143000"/>
          <a:ext cx="3687480" cy="7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368748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865080" y="3125880"/>
          <a:ext cx="77796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5080" y="3125880"/>
                    <a:ext cx="7779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1143000" y="4191120"/>
          <a:ext cx="515880" cy="671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4191120"/>
                    <a:ext cx="51588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1981080" y="3124080"/>
          <a:ext cx="777960" cy="6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3124080"/>
                    <a:ext cx="7779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609480" y="3124080"/>
            <a:ext cx="9144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600200" y="3733920"/>
          <a:ext cx="1084320" cy="160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00200" y="3733920"/>
                    <a:ext cx="1084320" cy="16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976400" y="3124080"/>
            <a:ext cx="6858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33520" y="1676520"/>
          <a:ext cx="1193760" cy="768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3520" y="1676520"/>
                    <a:ext cx="119376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609480" y="2362320"/>
          <a:ext cx="1135080" cy="761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9480" y="2362320"/>
                    <a:ext cx="113508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1981080" y="1676520"/>
          <a:ext cx="1193760" cy="766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981080" y="1676520"/>
                    <a:ext cx="119376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914400" y="2362320"/>
            <a:ext cx="304812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579680" y="2438280"/>
          <a:ext cx="981000" cy="621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579680" y="2438280"/>
                    <a:ext cx="98100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419720" y="685800"/>
                <a:ext cx="441936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6" name=""/>
          <p:cNvGraphicFramePr/>
          <p:nvPr/>
        </p:nvGraphicFramePr>
        <p:xfrm>
          <a:off x="4876920" y="2133720"/>
          <a:ext cx="3103560" cy="1685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876920" y="2133720"/>
                    <a:ext cx="310356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952880" y="3886200"/>
          <a:ext cx="1741680" cy="1685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952880" y="3886200"/>
                    <a:ext cx="174168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6967440" y="4554360"/>
            <a:ext cx="162000" cy="2638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7120080" y="4325760"/>
            <a:ext cx="380880" cy="53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467480" y="2133720"/>
          <a:ext cx="919440" cy="1676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467480" y="2133720"/>
                    <a:ext cx="91944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828800" y="4648320"/>
            <a:ext cx="2514600" cy="11430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15920" y="1189080"/>
          <a:ext cx="4065480" cy="61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920" y="1189080"/>
                    <a:ext cx="406548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3352680" y="3048120"/>
          <a:ext cx="46692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3048120"/>
                    <a:ext cx="4669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1981080" y="3886200"/>
          <a:ext cx="8780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3886200"/>
                    <a:ext cx="8780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2209680" y="3048120"/>
          <a:ext cx="466920" cy="6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09680" y="3048120"/>
                    <a:ext cx="4669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225960" y="3046320"/>
            <a:ext cx="6300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819520" y="3809880"/>
          <a:ext cx="1084320" cy="67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19520" y="3809880"/>
                    <a:ext cx="1084320" cy="6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2049480" y="3048120"/>
            <a:ext cx="6858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666880" y="1676520"/>
          <a:ext cx="1557360" cy="666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66880" y="1676520"/>
                    <a:ext cx="155736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1927080" y="2438280"/>
          <a:ext cx="825480" cy="60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27080" y="2438280"/>
                    <a:ext cx="8254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457200" y="1676520"/>
          <a:ext cx="1557360" cy="663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57200" y="1676520"/>
                    <a:ext cx="15573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914400" y="2362320"/>
            <a:ext cx="304812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666880" y="2362320"/>
          <a:ext cx="1341720" cy="672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666880" y="2362320"/>
                    <a:ext cx="134172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572000" y="1219320"/>
                <a:ext cx="4572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99" name=""/>
          <p:cNvGraphicFramePr/>
          <p:nvPr/>
        </p:nvGraphicFramePr>
        <p:xfrm>
          <a:off x="4800600" y="2057400"/>
          <a:ext cx="2122560" cy="652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800600" y="2057400"/>
                    <a:ext cx="212256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5486400" y="2819520"/>
          <a:ext cx="2938320" cy="652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486400" y="2819520"/>
                    <a:ext cx="293832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8305920" y="3048120"/>
            <a:ext cx="161640" cy="26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8458200" y="2819160"/>
            <a:ext cx="380880" cy="53316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127240" y="4876920"/>
          <a:ext cx="1859040" cy="6714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127240" y="4876920"/>
                    <a:ext cx="18590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6781680" y="2057400"/>
          <a:ext cx="1739880" cy="6523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781680" y="2057400"/>
                    <a:ext cx="173988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828800" y="4648320"/>
            <a:ext cx="2514600" cy="11430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28600" y="1219320"/>
          <a:ext cx="4017960" cy="7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19320"/>
                    <a:ext cx="401796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3144960" y="3048120"/>
          <a:ext cx="88236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44960" y="3048120"/>
                    <a:ext cx="8823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2031840" y="3886200"/>
          <a:ext cx="7747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31840" y="3886200"/>
                    <a:ext cx="7747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2001960" y="3048120"/>
          <a:ext cx="882360" cy="6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01960" y="3048120"/>
                    <a:ext cx="8823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3225960" y="3046320"/>
            <a:ext cx="6300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819520" y="3962520"/>
          <a:ext cx="1033200" cy="671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19520" y="3962520"/>
                    <a:ext cx="10332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2049480" y="3048120"/>
            <a:ext cx="6858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124080" y="1676520"/>
          <a:ext cx="935280" cy="718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24080" y="1676520"/>
                    <a:ext cx="93528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2209680" y="2362320"/>
          <a:ext cx="515880" cy="609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09680" y="2362320"/>
                    <a:ext cx="5158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990720" y="1676520"/>
          <a:ext cx="933480" cy="714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990720" y="1676520"/>
                    <a:ext cx="93348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914400" y="2362320"/>
            <a:ext cx="304812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90920" y="2362320"/>
          <a:ext cx="1703160" cy="776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590920" y="2362320"/>
                    <a:ext cx="170316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572000" y="1295280"/>
                <a:ext cx="4572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34" name=""/>
          <p:cNvGraphicFramePr/>
          <p:nvPr/>
        </p:nvGraphicFramePr>
        <p:xfrm>
          <a:off x="5459400" y="2057400"/>
          <a:ext cx="1360440" cy="652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459400" y="2057400"/>
                    <a:ext cx="136044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324480" y="2819520"/>
          <a:ext cx="1470240" cy="652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24480" y="2819520"/>
                    <a:ext cx="147024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7848720" y="3048120"/>
            <a:ext cx="161640" cy="26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8001000" y="2819160"/>
            <a:ext cx="380880" cy="53316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152800" y="4826160"/>
          <a:ext cx="1806480" cy="7747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152800" y="4826160"/>
                    <a:ext cx="18064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6781680" y="2057400"/>
          <a:ext cx="1032120" cy="6523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781680" y="2057400"/>
                    <a:ext cx="103212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558720" y="1289160"/>
          <a:ext cx="3355920" cy="56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289160"/>
                    <a:ext cx="335592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2895480" y="1828800"/>
          <a:ext cx="1143000" cy="61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1828800"/>
                    <a:ext cx="11430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1905120" y="2438280"/>
          <a:ext cx="825480" cy="60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2438280"/>
                    <a:ext cx="8254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887400" y="1803240"/>
          <a:ext cx="1139760" cy="613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87400" y="1803240"/>
                    <a:ext cx="1139760" cy="6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914400" y="2438280"/>
            <a:ext cx="304812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666880" y="2438280"/>
          <a:ext cx="979560" cy="622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66880" y="2438280"/>
                    <a:ext cx="97956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80880" y="3352680"/>
            <a:ext cx="830592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Since the variable has been eliminated, and the resulting equation is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false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, the equation has             </a:t>
            </a: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NO SOLUTION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80880" y="1265400"/>
                <a:ext cx="53341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1" name=""/>
          <p:cNvGraphicFramePr/>
          <p:nvPr/>
        </p:nvGraphicFramePr>
        <p:xfrm>
          <a:off x="3048120" y="2743200"/>
          <a:ext cx="1299960" cy="8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743200"/>
                    <a:ext cx="129996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1828800" y="3657600"/>
          <a:ext cx="118728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3657600"/>
                    <a:ext cx="11872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763560" y="2768760"/>
          <a:ext cx="1295280" cy="81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3560" y="2768760"/>
                    <a:ext cx="129528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1143000" y="3505320"/>
            <a:ext cx="41148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971800" y="3657600"/>
          <a:ext cx="1649520" cy="622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1800" y="3657600"/>
                    <a:ext cx="164952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457200" y="457200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Since the variable has been eliminated, and the resulting equation is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true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, the equation is true for every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143000" y="2057400"/>
          <a:ext cx="898560" cy="757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43000" y="2057400"/>
                    <a:ext cx="89856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905120" y="2133720"/>
          <a:ext cx="1087200" cy="568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05120" y="2133720"/>
                    <a:ext cx="108720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2971800" y="2057400"/>
          <a:ext cx="2363760" cy="757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71800" y="2057400"/>
                    <a:ext cx="236376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4648320" y="5715000"/>
            <a:ext cx="32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99"/>
                </a:solidFill>
                <a:latin typeface="Times New Roman"/>
              </a:rPr>
              <a:t>IDENT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71600" y="5029200"/>
            <a:ext cx="2514600" cy="18288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46040" y="1211400"/>
          <a:ext cx="3403800" cy="56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1211400"/>
                    <a:ext cx="340380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2895480" y="3048120"/>
          <a:ext cx="83052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3048120"/>
                    <a:ext cx="8305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371600" y="3581280"/>
          <a:ext cx="1031760" cy="160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3581280"/>
                    <a:ext cx="103176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523880" y="3048120"/>
          <a:ext cx="830520" cy="6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3048120"/>
                    <a:ext cx="8305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2971800" y="3048120"/>
            <a:ext cx="965160" cy="144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336760" y="4149720"/>
          <a:ext cx="981000" cy="515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36760" y="4149720"/>
                    <a:ext cx="98100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1668600" y="3048120"/>
            <a:ext cx="6858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895480" y="1752480"/>
          <a:ext cx="882720" cy="513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95480" y="1752480"/>
                    <a:ext cx="88272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1727280" y="2438280"/>
          <a:ext cx="463320" cy="60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727280" y="2438280"/>
                    <a:ext cx="4633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762120" y="1752480"/>
          <a:ext cx="882360" cy="511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2120" y="1752480"/>
                    <a:ext cx="88236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914400" y="2362320"/>
            <a:ext cx="304812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362320" y="2438280"/>
          <a:ext cx="1650960" cy="621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362320" y="2438280"/>
                    <a:ext cx="165096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419720" y="1143000"/>
                <a:ext cx="4724280" cy="15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03" name=""/>
          <p:cNvGraphicFramePr/>
          <p:nvPr/>
        </p:nvGraphicFramePr>
        <p:xfrm>
          <a:off x="4648320" y="2532240"/>
          <a:ext cx="2122200" cy="1685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648320" y="2532240"/>
                    <a:ext cx="212220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6172200" y="4343400"/>
          <a:ext cx="1739880" cy="1685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172200" y="4343400"/>
                    <a:ext cx="173988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8001000" y="5105520"/>
            <a:ext cx="162000" cy="26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8153280" y="4876560"/>
            <a:ext cx="381240" cy="53316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523880" y="5105520"/>
          <a:ext cx="2013120" cy="1600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523880" y="5105520"/>
                    <a:ext cx="2013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6781680" y="2590920"/>
          <a:ext cx="1141560" cy="16858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781680" y="2590920"/>
                    <a:ext cx="114156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500"/>
                            </p:stCondLst>
                            <p:childTnLst>
                              <p:par>
                                <p:cTn id="45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10600" y="152280"/>
            <a:ext cx="1733400" cy="37148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216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olving a Real-Life Probl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8" name=""/>
          <p:cNvGraphicFramePr/>
          <p:nvPr/>
        </p:nvGraphicFramePr>
        <p:xfrm>
          <a:off x="544680" y="3606840"/>
          <a:ext cx="747720" cy="60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4680" y="3606840"/>
                    <a:ext cx="74772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0" y="990720"/>
            <a:ext cx="75438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99"/>
                </a:solidFill>
                <a:latin typeface="Times New Roman"/>
              </a:rPr>
              <a:t>7. A health club charges nonmembers $3 per day to swim and $5 per day for aerobics classes. Members pay a yearly fee of $200 plus $3 per day for aerobics classes. Write and solve an equation to find the number of days you must use the club to justify a yearly membership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4120" y="4572000"/>
            <a:ext cx="380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imes New Roman"/>
              </a:rPr>
              <a:t>You need to use the club 40 days to justify a memb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971800" y="3048120"/>
          <a:ext cx="4700520" cy="711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71800" y="3048120"/>
                    <a:ext cx="470052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2243160" y="3581280"/>
          <a:ext cx="1719360" cy="663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43160" y="3581280"/>
                    <a:ext cx="171936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1176480" y="3581280"/>
          <a:ext cx="1096920" cy="600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76480" y="3581280"/>
                    <a:ext cx="109692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639800" y="6245280"/>
          <a:ext cx="465120" cy="612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39800" y="6245280"/>
                    <a:ext cx="4651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6553080" y="4114800"/>
          <a:ext cx="517680" cy="519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553080" y="4114800"/>
                    <a:ext cx="51768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3005280" y="6245280"/>
          <a:ext cx="466560" cy="612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005280" y="6245280"/>
                    <a:ext cx="4665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1274760" y="6245280"/>
            <a:ext cx="11430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7010280" y="4038480"/>
          <a:ext cx="1290600" cy="6210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010280" y="4038480"/>
                    <a:ext cx="129060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2776680" y="6245280"/>
            <a:ext cx="9144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481040" y="4191120"/>
          <a:ext cx="774720" cy="6220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481040" y="4191120"/>
                    <a:ext cx="77472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2243160" y="4191120"/>
          <a:ext cx="2735280" cy="6206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243160" y="4191120"/>
                    <a:ext cx="273528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3843360" y="3581280"/>
          <a:ext cx="1220760" cy="6638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843360" y="3581280"/>
                    <a:ext cx="122076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1100160" y="4800600"/>
          <a:ext cx="1144440" cy="615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1100160" y="4800600"/>
                    <a:ext cx="114444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3843360" y="4800600"/>
          <a:ext cx="1139760" cy="61272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3843360" y="4800600"/>
                    <a:ext cx="11397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1176480" y="5486400"/>
            <a:ext cx="41148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405080" y="5486400"/>
          <a:ext cx="772920" cy="62064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1405080" y="5486400"/>
                    <a:ext cx="7729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2243160" y="5486400"/>
          <a:ext cx="1598760" cy="62064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2243160" y="5486400"/>
                    <a:ext cx="15987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000"/>
                            </p:stCondLst>
                            <p:childTnLst>
                              <p:par>
                                <p:cTn id="5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500"/>
                            </p:stCondLst>
                            <p:childTnLst>
                              <p:par>
                                <p:cTn id="59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6959520" y="457200"/>
            <a:ext cx="2184480" cy="32767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256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olving a Real-Life Probl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58" name=""/>
          <p:cNvGraphicFramePr/>
          <p:nvPr/>
        </p:nvGraphicFramePr>
        <p:xfrm>
          <a:off x="520560" y="3606840"/>
          <a:ext cx="797040" cy="60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0560" y="3606840"/>
                    <a:ext cx="7970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0" y="990720"/>
            <a:ext cx="75438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99"/>
                </a:solidFill>
                <a:latin typeface="Times New Roman"/>
              </a:rPr>
              <a:t>8. A health club charges nonmembers </a:t>
            </a:r>
            <a:r>
              <a:rPr b="1" lang="en-US" sz="2600" spc="-1" strike="noStrike">
                <a:solidFill>
                  <a:srgbClr val="ff9900"/>
                </a:solidFill>
                <a:latin typeface="Times New Roman"/>
              </a:rPr>
              <a:t>$2</a:t>
            </a:r>
            <a:r>
              <a:rPr b="1" lang="en-US" sz="2600" spc="-1" strike="noStrike">
                <a:solidFill>
                  <a:srgbClr val="006699"/>
                </a:solidFill>
                <a:latin typeface="Times New Roman"/>
              </a:rPr>
              <a:t> per day to swim and $5 per day for aerobics classes. Members pay a yearly fee of </a:t>
            </a:r>
            <a:r>
              <a:rPr b="1" lang="en-US" sz="2600" spc="-1" strike="noStrike">
                <a:solidFill>
                  <a:srgbClr val="ff9900"/>
                </a:solidFill>
                <a:latin typeface="Times New Roman"/>
              </a:rPr>
              <a:t>$220</a:t>
            </a:r>
            <a:r>
              <a:rPr b="1" lang="en-US" sz="2600" spc="-1" strike="noStrike">
                <a:solidFill>
                  <a:srgbClr val="006699"/>
                </a:solidFill>
                <a:latin typeface="Times New Roman"/>
              </a:rPr>
              <a:t> plus $3 per day for aerobics classes. Write and solve an equation to find the number of days you must use the club to justify a yearly membership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4120" y="4572000"/>
            <a:ext cx="380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imes New Roman"/>
              </a:rPr>
              <a:t>You need to use the club 55 days to justify a memb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2895480" y="2971800"/>
          <a:ext cx="4700880" cy="711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95480" y="2971800"/>
                    <a:ext cx="47008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2243160" y="3581280"/>
          <a:ext cx="1719360" cy="663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43160" y="3581280"/>
                    <a:ext cx="171936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1176480" y="3581280"/>
          <a:ext cx="1096920" cy="600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76480" y="3581280"/>
                    <a:ext cx="109692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1614600" y="6245280"/>
          <a:ext cx="515880" cy="612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14600" y="6245280"/>
                    <a:ext cx="5158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6629400" y="4038480"/>
          <a:ext cx="517680" cy="519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629400" y="4038480"/>
                    <a:ext cx="51768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2979720" y="6245280"/>
          <a:ext cx="519120" cy="612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979720" y="6245280"/>
                    <a:ext cx="5191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1274760" y="6245280"/>
            <a:ext cx="11430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7112160" y="3962520"/>
          <a:ext cx="1239840" cy="6206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112160" y="3962520"/>
                    <a:ext cx="12398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2776680" y="6245280"/>
            <a:ext cx="9144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455840" y="4191120"/>
          <a:ext cx="826920" cy="6220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455840" y="4191120"/>
                    <a:ext cx="82692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2243160" y="4191120"/>
          <a:ext cx="2735280" cy="6206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243160" y="4191120"/>
                    <a:ext cx="273528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"/>
          <p:cNvGraphicFramePr/>
          <p:nvPr/>
        </p:nvGraphicFramePr>
        <p:xfrm>
          <a:off x="3843360" y="3581280"/>
          <a:ext cx="1220760" cy="6638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843360" y="3581280"/>
                    <a:ext cx="122076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1100160" y="4800600"/>
          <a:ext cx="1144440" cy="6159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1100160" y="4800600"/>
                    <a:ext cx="114444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3843360" y="4800600"/>
          <a:ext cx="1139760" cy="61272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3843360" y="4800600"/>
                    <a:ext cx="11397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"/>
          <p:cNvSpPr/>
          <p:nvPr/>
        </p:nvSpPr>
        <p:spPr>
          <a:xfrm>
            <a:off x="1176480" y="5486400"/>
            <a:ext cx="41148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1379520" y="5486400"/>
          <a:ext cx="824040" cy="62064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1379520" y="5486400"/>
                    <a:ext cx="8240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2243160" y="5486400"/>
          <a:ext cx="1598760" cy="62064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2243160" y="5486400"/>
                    <a:ext cx="15987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000"/>
                            </p:stCondLst>
                            <p:childTnLst>
                              <p:par>
                                <p:cTn id="6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500"/>
                            </p:stCondLst>
                            <p:childTnLst>
                              <p:par>
                                <p:cTn id="70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.skelton</cp:lastModifiedBy>
  <dcterms:modified xsi:type="dcterms:W3CDTF">2004-09-13T16:45:33Z</dcterms:modified>
  <cp:revision>205</cp:revision>
  <dc:subject/>
  <dc:title>No Slide Title</dc:title>
</cp:coreProperties>
</file>